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9F08-1630-493A-A394-06753DDD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E9EB-83F7-47AD-8DCC-D8422335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0CC1-17C7-4BDC-AE92-22F0701E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09E3-590F-40CB-9286-2B9A48D7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F406-473B-4205-A4CA-EFAE6785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5B09-D316-4EA2-896B-7376A83E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3241-5E14-4E57-82F1-437D35EC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4B2F-CC0A-4BFD-BF08-6FF6B3F9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E0BA-BDD4-4E19-A2F7-DAF81D6E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6E7B-4DA3-4B01-9E08-22AF566C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D6B0-50F2-402A-88A8-FAB0CA63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D9631-5698-45C8-A494-EE3BABE3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F96D-90AB-4915-B7BE-B1F2B3E1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8056-CCC2-4AF1-BB74-FD7C3785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76CA-D6A8-44F2-8ED0-C55656AD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02D9-C730-4C41-AA72-B7CB0D0E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EA23-0FAC-4440-9930-C1CF30AC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3550-1740-4494-ABCB-9ECBD082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54D24-8FE5-4199-8952-48693788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AC3E-D6D1-4AEB-B06C-C31E6C55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0986-1E83-479A-8D7A-8EB7F66E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AE1E-2ED7-4202-A0DA-345B30EC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3F9FA-A595-4D65-B18C-BD8DE49A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72F5-9178-4114-A850-ACE380CE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0A70-6667-4BC6-AEA8-BD60CBFB5B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CDAD-AA93-44C4-BC13-15850CC7BA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ST INI</a:t>
            </a: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ŢI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65530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ructura programel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ipuri simple de d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iabile, consta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itire scriere d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ructuri repeti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676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Garamond"/>
              </a:rPr>
              <a:t>Privi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5e5ff"/>
                </a:solidFill>
                <a:latin typeface="Garamond"/>
              </a:rPr>
              <a:t>S</a:t>
            </a: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TRUCTURA PROGRAMELOR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e este structura de baz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ă a unu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gram scris în limbajul Pasc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1295280"/>
            <a:ext cx="2895840" cy="990720"/>
          </a:xfrm>
          <a:prstGeom prst="wedgeEllipseCallout">
            <a:avLst>
              <a:gd name="adj1" fmla="val -41226"/>
              <a:gd name="adj2" fmla="val 8862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Notaţi răspunsul pe foaia de lucr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971800"/>
            <a:ext cx="2895480" cy="990720"/>
          </a:xfrm>
          <a:prstGeom prst="wedgeEllipseCallout">
            <a:avLst>
              <a:gd name="adj1" fmla="val -37773"/>
              <a:gd name="adj2" fmla="val 11666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Răspuns co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24320" y="3048120"/>
            <a:ext cx="3582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Program numele_programulu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{  Declararea variabilelor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{ Corpul programului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n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5e5ff"/>
                </a:solidFill>
                <a:latin typeface="Garamond"/>
              </a:rPr>
              <a:t>T</a:t>
            </a: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IPURI SIMPLE DE DAT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umera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ţi trei tipuri de dat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-   numere întreg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-   numere re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1295280"/>
            <a:ext cx="2895840" cy="990720"/>
          </a:xfrm>
          <a:prstGeom prst="wedgeEllipseCallout">
            <a:avLst>
              <a:gd name="adj1" fmla="val -41226"/>
              <a:gd name="adj2" fmla="val 8862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Notaţi răspunsul pe foaia de lucr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2819520"/>
            <a:ext cx="2895480" cy="990360"/>
          </a:xfrm>
          <a:prstGeom prst="wedgeEllipseCallout">
            <a:avLst>
              <a:gd name="adj1" fmla="val -36018"/>
              <a:gd name="adj2" fmla="val 10384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Răspuns co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292680" y="3962520"/>
            <a:ext cx="886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Tipuri întregi: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732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yte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ate lua valori intre (0, 255) stocat intern pe: 1 by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732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nteger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ate lua valori intre (-32768, 32767) stocat intern pe: 2 by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732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ord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ate lua valori intre (0, 65535) stocat intern pe: 2 by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4100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Tipuri reale: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732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ingle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po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te lua valori intre (1.5E-45, 3.4E38)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st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cat intern pe: 4 by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732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eal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ate lua valori intre (2.9E-39, 1.7E38)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ocat intern pe: 6 by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732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ouble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ate lua valori intre (5.0E-324, 1.7E308)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ocat intern pe: 8 by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e5e5ff"/>
                </a:solidFill>
                <a:latin typeface="Garamond"/>
              </a:rPr>
              <a:t>V</a:t>
            </a:r>
            <a:r>
              <a:rPr b="1" lang="ro-RO" sz="4800" spc="-1" strike="noStrike">
                <a:solidFill>
                  <a:srgbClr val="e5e5ff"/>
                </a:solidFill>
                <a:latin typeface="Garamond"/>
              </a:rPr>
              <a:t>ARIABILE, CONSTANT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Cum declaraţi o variabilă de ti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boolean şi cum creaţi o constant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maxim setat pe 100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1295280"/>
            <a:ext cx="2895840" cy="990720"/>
          </a:xfrm>
          <a:prstGeom prst="wedgeEllipseCallout">
            <a:avLst>
              <a:gd name="adj1" fmla="val -41226"/>
              <a:gd name="adj2" fmla="val 8862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Notaţi răspunsul pe foaia de lucr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2819520"/>
            <a:ext cx="2895480" cy="990360"/>
          </a:xfrm>
          <a:prstGeom prst="wedgeEllipseCallout">
            <a:avLst>
              <a:gd name="adj1" fmla="val -36018"/>
              <a:gd name="adj2" fmla="val 10384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Răspuns co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9625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Var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        Var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nume_variabilă : tipul ;                 ok : boolea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4100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Const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        Var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nume_constantă  = tipul ;              maxim = 10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ITIRE </a:t>
            </a:r>
            <a:r>
              <a:rPr b="1" lang="ro-RO" sz="4800" spc="-1" strike="noStrike">
                <a:solidFill>
                  <a:srgbClr val="e5e5ff"/>
                </a:solidFill>
                <a:latin typeface="Garamond"/>
              </a:rPr>
              <a:t>- </a:t>
            </a: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SCRIERE DAT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Daţi instrucţiunea care afişeaz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mesajul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’’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Numărul est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’’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 şi citeşt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de la tastatură o variabilă de ti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între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1295280"/>
            <a:ext cx="2895840" cy="990720"/>
          </a:xfrm>
          <a:prstGeom prst="wedgeEllipseCallout">
            <a:avLst>
              <a:gd name="adj1" fmla="val -49125"/>
              <a:gd name="adj2" fmla="val 8862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Notaţi răspunsul pe foaia de lucr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819520"/>
            <a:ext cx="2895480" cy="990360"/>
          </a:xfrm>
          <a:prstGeom prst="wedgeEllipseCallout">
            <a:avLst>
              <a:gd name="adj1" fmla="val -48300"/>
              <a:gd name="adj2" fmla="val 8461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Răspuns co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9625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Write(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‘Numarul este: ’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;   Readln(numar)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6483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re este diferen</a:t>
            </a:r>
            <a:r>
              <a:rPr b="1" lang="ro-RO" sz="3200" spc="-1" strike="noStrike">
                <a:solidFill>
                  <a:srgbClr val="ffffff"/>
                </a:solidFill>
                <a:latin typeface="Garamond"/>
              </a:rPr>
              <a:t>ţa între WRITE şi WRITE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419040" y="5562720"/>
            <a:ext cx="1003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În cazul lui </a:t>
            </a:r>
            <a:r>
              <a:rPr b="1" i="1" lang="ro-RO" sz="1800" spc="-1" strike="noStrike">
                <a:solidFill>
                  <a:srgbClr val="ffffff"/>
                </a:solidFill>
                <a:latin typeface="Garamond"/>
              </a:rPr>
              <a:t>WRITE(conţinut),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afişează datele dintre paranteze, iar cursorul rămâne dup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conţinutul afişat. </a:t>
            </a:r>
            <a:r>
              <a:rPr b="1" i="1" lang="ro-RO" sz="1800" spc="-1" strike="noStrike">
                <a:solidFill>
                  <a:srgbClr val="ffffff"/>
                </a:solidFill>
                <a:latin typeface="Garamond"/>
              </a:rPr>
              <a:t>WRITELN(conţinut)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are efectul de a afişa conţinutul şi a trece cursoru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în linie nou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e5e5ff"/>
                </a:solidFill>
                <a:latin typeface="Garamond"/>
              </a:rPr>
              <a:t>S</a:t>
            </a:r>
            <a:r>
              <a:rPr b="1" lang="ro-RO" sz="4800" spc="-1" strike="noStrike">
                <a:solidFill>
                  <a:srgbClr val="e5e5ff"/>
                </a:solidFill>
                <a:latin typeface="Garamond"/>
              </a:rPr>
              <a:t>TRUCTURI REPETITIV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Care este sintaxa şi cum trebu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să fie condiţia în cazul bucle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ff"/>
                </a:solidFill>
                <a:latin typeface="Garamond"/>
              </a:rPr>
              <a:t>WHILE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entru a se executa conţinutu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1295280"/>
            <a:ext cx="2895840" cy="990720"/>
          </a:xfrm>
          <a:prstGeom prst="wedgeEllipseCallout">
            <a:avLst>
              <a:gd name="adj1" fmla="val -44296"/>
              <a:gd name="adj2" fmla="val 10528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Notaţi răspunsul pe foaia de lucr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2819520"/>
            <a:ext cx="2895480" cy="990360"/>
          </a:xfrm>
          <a:prstGeom prst="wedgeEllipseCallout">
            <a:avLst>
              <a:gd name="adj1" fmla="val -48300"/>
              <a:gd name="adj2" fmla="val 8461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Răspuns co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1480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WHILE ( condiţia )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(   ...................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4871400">
            <a:off x="4815000" y="4861440"/>
            <a:ext cx="1206360" cy="322200"/>
          </a:xfrm>
          <a:custGeom>
            <a:avLst/>
            <a:gdLst>
              <a:gd name="textAreaLeft" fmla="*/ 210960 w 1206360"/>
              <a:gd name="textAreaRight" fmla="*/ 874800 w 1206360"/>
              <a:gd name="textAreaTop" fmla="*/ 43200 h 322200"/>
              <a:gd name="textAreaBottom" fmla="*/ 279000 h 322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791320" y="4648320"/>
            <a:ext cx="129528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diţia TR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4876920"/>
            <a:ext cx="114300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diţia FAL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94640" y="51433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e5e5ff"/>
                </a:solidFill>
                <a:latin typeface="Garamond"/>
              </a:rPr>
              <a:t>S</a:t>
            </a:r>
            <a:r>
              <a:rPr b="1" lang="ro-RO" sz="4800" spc="-1" strike="noStrike">
                <a:solidFill>
                  <a:srgbClr val="e5e5ff"/>
                </a:solidFill>
                <a:latin typeface="Garamond"/>
              </a:rPr>
              <a:t>TRUCTURI REPETITIV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Care este sintaxa şi cum trebu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să fie condiţia în cazul bucle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ff"/>
                </a:solidFill>
                <a:latin typeface="Garamond"/>
              </a:rPr>
              <a:t>REPEAT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entru a se executa conţinutu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1295280"/>
            <a:ext cx="2895840" cy="990720"/>
          </a:xfrm>
          <a:prstGeom prst="wedgeEllipseCallout">
            <a:avLst>
              <a:gd name="adj1" fmla="val -44296"/>
              <a:gd name="adj2" fmla="val 10528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Notaţi răspunsul pe foaia de lucr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2819520"/>
            <a:ext cx="2895480" cy="990360"/>
          </a:xfrm>
          <a:prstGeom prst="wedgeEllipseCallout">
            <a:avLst>
              <a:gd name="adj1" fmla="val -48300"/>
              <a:gd name="adj2" fmla="val 8461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Răspuns co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411480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REPE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(   ...................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UNTIL ( condiţia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4871400">
            <a:off x="4434120" y="5775840"/>
            <a:ext cx="1206360" cy="322200"/>
          </a:xfrm>
          <a:custGeom>
            <a:avLst/>
            <a:gdLst>
              <a:gd name="textAreaLeft" fmla="*/ 210960 w 1206360"/>
              <a:gd name="textAreaRight" fmla="*/ 874800 w 1206360"/>
              <a:gd name="textAreaTop" fmla="*/ 43200 h 322200"/>
              <a:gd name="textAreaBottom" fmla="*/ 279000 h 322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562720" y="5562720"/>
            <a:ext cx="129528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diţia TR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472428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diţia FAL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1828800" y="4647960"/>
            <a:ext cx="1066680" cy="6094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MIKE</cp:lastModifiedBy>
  <dcterms:modified xsi:type="dcterms:W3CDTF">2010-11-30T19:22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